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A25-8C24-4DB6-8DAC-06A225A9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E22-E830-476F-93F7-997B222B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00F-DBF2-4ABB-8868-C92A6DDE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A98-BA0F-450D-B716-D6C691DF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07F-E8B6-429E-A872-008F756A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0ED-98D6-424A-BB44-2DC1A0E6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170-201F-4FCE-B0D2-8C10E59C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4AD-3DF4-4CFF-8F74-832FD182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A7A-6B02-4C80-AFFC-8A8CD12C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83A-91D2-4D74-A6BE-1E15EC3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2C2-314B-4D03-AD9E-1621696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939-9C89-4CB6-AE41-EDB55CFB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2C25-6FBA-42E0-BA83-62112FE19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darby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066680"/>
            <a:ext cx="48769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ndsurf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52531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oke Armi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5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0000" t="4963" r="40001" b="15661"/>
          <a:stretch/>
        </p:blipFill>
        <p:spPr>
          <a:xfrm>
            <a:off x="0" y="4419720"/>
            <a:ext cx="266688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733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Newman Da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52924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wnhill_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/23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0384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Darby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279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502920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man Dar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. 19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darb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09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man Darby invented windsurfing on vacation in 19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Windsur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surfing was invented in 19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name at first was “sailboa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ever metal universal joint for the foot master was invented in 196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60’s wind surfing wasn’t very popular, but then in the 70’s it took of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s were big fans, it was said that in every three houses someone ha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Newman Da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man created windsurfing with his girlfriend on va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64 Newman, his wife Naomi, and his brother started the “Darby Industri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64 Darby got a Science magazine to publish a 4 page article about windsurf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60’s sales weren’t good till Drake and Hoyle Schweitzer created wind surfing, and their duo made sales go up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man then changed the name from sailboard to windsurf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5:06Z</dcterms:created>
  <dc:creator>install</dc:creator>
  <dc:description/>
  <dc:language>en-US</dc:language>
  <cp:lastModifiedBy>install</cp:lastModifiedBy>
  <dcterms:modified xsi:type="dcterms:W3CDTF">2011-09-26T13:56:43Z</dcterms:modified>
  <cp:revision>8</cp:revision>
  <dc:subject/>
  <dc:title>Slide 1</dc:title>
</cp:coreProperties>
</file>